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cc00"/>
                </a:solidFill>
                <a:latin typeface="Verdana"/>
              </a:rPr>
              <a:t>Click to move the slide</a:t>
            </a:r>
            <a:endParaRPr b="1" lang="en-US" sz="33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780A-6717-4017-BA3E-B1132EB45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Frequency air and sea link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over 480 flights per week in and out of NZ to LA, Asia and Austra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Zealand also has a large number of ports interspersed between the North &amp; South is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 of shipping is highly competitive and carriers include Maersk &amp; P&amp;O Nedlloy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mmunication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NZ telecommunications system is 100% digital with national services provided by copper, fibre optic cable and terrestrial wirel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3 major telcos all with links and associations with US and European c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Z is well services internationally with 4 international cable connections and access to the Indian &amp; Pacific ocean region Intels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ill be augmented in November 2000 when the Southern Cross cable comes online with an expected capacity of 200 giga bit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Low rental and infrastructur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Quality office space is available in the main centers for between 160 &amp; 250 NZ$ per square meter p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plentiful supply of high quality electrical power between 4 &amp; 6 cents per kwh, most of which comes from hydro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Highly skilled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ase of access to education has ensured an educated and skilled workfor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Test market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 the US Preroria, Illinois is used as a test city for marketing new product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Z goes one better - we can test national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ording to The Economist October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imple low tax structu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base rate of 33%, GST of 12.5% however this is charged to the end use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ayroll tax, no social security tax, no capital gains ta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Z’ers readily adopt new technology 80% of all banking in NZ is now done electron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Frequency air and sea link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over 480 flights per week in and out of NZ to LA, Asia and Austra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Zealand also has a large number of ports interspersed between the North &amp; South is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 of shipping is highly competitive and carriers include Maersk &amp; P&amp;O Nedlloy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mmunication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NZ telecommunications system is 100% digital with national services provided by copper, fibre optic cable and terrestrial wirel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3 major telcos all with links and associations with US and European c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Z is well services internationally with 4 international cable connections and access to the Indian &amp; Pacific ocean region Intels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ill be augmented in November 2000 when the Southern Cross cable comes online with an expected capacity of 200 giga bits per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Low rental and infrastructur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Quality office space is available in the main centers for between 160 &amp; 250 NZ$ per square meter p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plentiful supply of high quality electrical power between 4 &amp; 6 cents per kwh, most of which comes from hydro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Highly skilled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ase of access to education has ensured an educated and skilled workfor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84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693680"/>
            <a:ext cx="784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8300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7720" y="2743200"/>
            <a:ext cx="38300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693680"/>
            <a:ext cx="38300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07720" y="4693680"/>
            <a:ext cx="38300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2527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9720" y="2743200"/>
            <a:ext cx="2527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93640" y="2743200"/>
            <a:ext cx="2527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693680"/>
            <a:ext cx="2527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9720" y="4693680"/>
            <a:ext cx="2527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93640" y="4693680"/>
            <a:ext cx="2527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8487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848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8300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07720" y="2743200"/>
            <a:ext cx="38300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8300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07720" y="2743200"/>
            <a:ext cx="38300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693680"/>
            <a:ext cx="38300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8487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8300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7720" y="2743200"/>
            <a:ext cx="38300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07720" y="4693680"/>
            <a:ext cx="38300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8300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7720" y="2743200"/>
            <a:ext cx="38300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693680"/>
            <a:ext cx="784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84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693680"/>
            <a:ext cx="784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8300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7720" y="2743200"/>
            <a:ext cx="38300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693680"/>
            <a:ext cx="38300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07720" y="4693680"/>
            <a:ext cx="38300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2527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39720" y="2743200"/>
            <a:ext cx="2527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93640" y="2743200"/>
            <a:ext cx="2527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693680"/>
            <a:ext cx="2527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39720" y="4693680"/>
            <a:ext cx="2527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93640" y="4693680"/>
            <a:ext cx="2527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848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8300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07720" y="2743200"/>
            <a:ext cx="38300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8300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7720" y="2743200"/>
            <a:ext cx="38300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693680"/>
            <a:ext cx="38300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8300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7720" y="2743200"/>
            <a:ext cx="38300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07720" y="4693680"/>
            <a:ext cx="38300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8300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7720" y="2743200"/>
            <a:ext cx="38300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693680"/>
            <a:ext cx="78487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cc00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743200"/>
            <a:ext cx="7848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102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lnSpc>
                <a:spcPct val="102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lnSpc>
                <a:spcPct val="102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lnSpc>
                <a:spcPct val="102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lnSpc>
                <a:spcPct val="102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lnSpc>
                <a:spcPct val="102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7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cc00"/>
                </a:solidFill>
                <a:latin typeface="Verdana"/>
              </a:rPr>
              <a:t>Click to edit the title text format</a:t>
            </a:r>
            <a:endParaRPr b="1" lang="en-US" sz="33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25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algn="ctr">
              <a:lnSpc>
                <a:spcPct val="102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lnSpc>
                <a:spcPct val="102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lnSpc>
                <a:spcPct val="102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lnSpc>
                <a:spcPct val="102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66cc00"/>
                </a:solidFill>
                <a:latin typeface="Verdana"/>
              </a:rPr>
              <a:t>New Zealand Overview</a:t>
            </a:r>
            <a:br>
              <a:rPr sz="3300"/>
            </a:br>
            <a:r>
              <a:rPr b="1" lang="en-US" sz="2800" spc="-1" strike="noStrike">
                <a:solidFill>
                  <a:srgbClr val="66cc00"/>
                </a:solidFill>
                <a:latin typeface="Verdana"/>
              </a:rPr>
              <a:t>Nick Arathimos</a:t>
            </a:r>
            <a:br>
              <a:rPr sz="2800"/>
            </a:br>
            <a:r>
              <a:rPr b="1" lang="en-US" sz="2800" spc="-1" strike="noStrike">
                <a:solidFill>
                  <a:srgbClr val="66cc00"/>
                </a:solidFill>
                <a:latin typeface="Verdana"/>
              </a:rPr>
              <a:t>Investment New Zealand</a:t>
            </a:r>
            <a:endParaRPr b="1" lang="en-US" sz="28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95280" y="44956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25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vestment New Zeal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66cc00"/>
                </a:solidFill>
                <a:latin typeface="Verdana"/>
              </a:rPr>
              <a:t>Where Do The $’s Come From?</a:t>
            </a: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84872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ffffff"/>
                </a:solidFill>
                <a:uFillTx/>
                <a:latin typeface="Verdana"/>
              </a:rPr>
              <a:t>Visible Exports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Dairy, Meat, Wood and Wool  - 65%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Added Value Manufacturing  - 25%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 u="sng">
                <a:solidFill>
                  <a:srgbClr val="ffffff"/>
                </a:solidFill>
                <a:uFillTx/>
                <a:latin typeface="Verdana"/>
              </a:rPr>
              <a:t>Invisible Exports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Tourism, Software and Consultanc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66cc00"/>
                </a:solidFill>
                <a:latin typeface="Verdana"/>
              </a:rPr>
              <a:t>Big Four Global Markets</a:t>
            </a: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2666880"/>
            <a:ext cx="38480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2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Australia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102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USA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102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UK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102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Japan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" name="j0251359" descr=""/>
          <p:cNvPicPr/>
          <p:nvPr/>
        </p:nvPicPr>
        <p:blipFill>
          <a:blip r:embed="rId1"/>
          <a:stretch/>
        </p:blipFill>
        <p:spPr>
          <a:xfrm>
            <a:off x="4648320" y="2666880"/>
            <a:ext cx="277020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cc00"/>
                </a:solidFill>
                <a:latin typeface="Verdana"/>
              </a:rPr>
              <a:t>Taxation in NZ</a:t>
            </a: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 taxes are Income Tax and Goods and Services Tax (GST)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ersonal Tax Rates: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5% on income NZ$0- $9,500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1%  on NZ $9500- $38,000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3% on income  NZ$ 38,000- $60,000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9% above NZ$60,000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GST applies at a uniform rate of 12.5%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mpany Tax 33%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cc00"/>
                </a:solidFill>
                <a:latin typeface="Verdana"/>
              </a:rPr>
              <a:t>IT Industry in NZ</a:t>
            </a: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Z IT Valued at $9.5 billion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pproximately 50,000 employed in I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4,500 IT students in NZ Universities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,500 graduates annually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40% increase in graduates since 1998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rend encouraged by Governmen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cc00"/>
                </a:solidFill>
                <a:latin typeface="Verdana"/>
              </a:rPr>
              <a:t>Software Services and Exports</a:t>
            </a: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80880" y="1523880"/>
          <a:ext cx="8229600" cy="580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3880"/>
                    <a:ext cx="8229600" cy="58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cc00"/>
                </a:solidFill>
                <a:latin typeface="Verdana"/>
              </a:rPr>
              <a:t>New Zealand - Ideal Test Market</a:t>
            </a: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2362320"/>
            <a:ext cx="84582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st-effective testing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caleable demographics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ophisticated market of early adopters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 season ahead of the Northern Hemisphere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15998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cc00"/>
                </a:solidFill>
                <a:latin typeface="Verdana"/>
              </a:rPr>
              <a:t>Fertile Biotechnology Environment</a:t>
            </a: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063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Verdana"/>
              </a:rPr>
              <a:t>Relatively disease free animal health status</a:t>
            </a:r>
            <a:endParaRPr b="1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ew Zealand - the premier location for producing human pharmaceuticals through farm anima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063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Verdana"/>
              </a:rPr>
              <a:t>High quality and cost competitive Government and university research facilities</a:t>
            </a:r>
            <a:endParaRPr b="1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063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Verdana"/>
              </a:rPr>
              <a:t>A science community with strong international linkages</a:t>
            </a:r>
            <a:endParaRPr b="1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063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Verdana"/>
              </a:rPr>
              <a:t>Research focuses on both agbiotech and human health</a:t>
            </a:r>
            <a:endParaRPr b="1" lang="en-US" sz="1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1599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cc00"/>
                </a:solidFill>
                <a:latin typeface="Verdana"/>
              </a:rPr>
              <a:t>Fertile Biotechnology Environment</a:t>
            </a: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iological sciences are a strength of New Zealand tertiary education sector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ew Zealand produces more graduates in biology than any other science discipline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ew Zealand has a deep resource of people with intellectual capital in the biological sciences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1599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cc00"/>
                </a:solidFill>
                <a:latin typeface="Verdana"/>
              </a:rPr>
              <a:t>Back Office Processing (SSC)</a:t>
            </a: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ew Zealand represents a cost effective location compared to other Western countries for both labour and infrastructure costs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ew Zealand has international and national telecommunications infrastructure to undertake cross border back office processing operations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ew Zealand employees are customer service centric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ew Zealand provides a 24x7 work force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129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cc00"/>
                </a:solidFill>
                <a:latin typeface="Verdana"/>
              </a:rPr>
              <a:t>Back Office Processing (SSC)</a:t>
            </a: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167652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Times New Roman"/>
              </a:rPr>
              <a:t>Total annual operating costs for a 100 person, transaction processing back office facility, percentage cost saving in Auckland compared to Australian and US lo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143000" y="2514600"/>
          <a:ext cx="6527880" cy="406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514600"/>
                    <a:ext cx="6527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cc00"/>
                </a:solidFill>
                <a:latin typeface="Verdana"/>
              </a:rPr>
              <a:t>What is Investment New Zealand?</a:t>
            </a: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2438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ew Zealand’s investment promotion agency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 division of Trade NZ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acilitates foreign direct investment (FDI)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We give you the inside running”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cc00"/>
                </a:solidFill>
                <a:latin typeface="Verdana"/>
              </a:rPr>
              <a:t>Investment Overview</a:t>
            </a: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61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ew Zealand welcomes investment from international companies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eeks to build on and complement the relationship with it’s trading partners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1523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cc00"/>
                </a:solidFill>
                <a:latin typeface="Verdana"/>
              </a:rPr>
              <a:t>Ease of Starting a New Business</a:t>
            </a: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58520" y="2286000"/>
            <a:ext cx="7239240" cy="3468240"/>
            <a:chOff x="758520" y="2286000"/>
            <a:chExt cx="7239240" cy="3468240"/>
          </a:xfrm>
        </p:grpSpPr>
        <p:sp>
          <p:nvSpPr>
            <p:cNvPr id="137" name=""/>
            <p:cNvSpPr/>
            <p:nvPr/>
          </p:nvSpPr>
          <p:spPr>
            <a:xfrm>
              <a:off x="2244600" y="2286000"/>
              <a:ext cx="5582520" cy="322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42000" y="2286000"/>
              <a:ext cx="1440" cy="322632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38320" y="2286000"/>
              <a:ext cx="1080" cy="322632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636080" y="2286000"/>
              <a:ext cx="1080" cy="322632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36360" y="2286000"/>
              <a:ext cx="1440" cy="322632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33760" y="2286000"/>
              <a:ext cx="1440" cy="322632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30080" y="2286000"/>
              <a:ext cx="1080" cy="322632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827480" y="2286000"/>
              <a:ext cx="1440" cy="322632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44600" y="5350320"/>
              <a:ext cx="3191400" cy="95040"/>
            </a:xfrm>
            <a:prstGeom prst="rect">
              <a:avLst/>
            </a:prstGeom>
            <a:solidFill>
              <a:srgbClr val="ffe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44600" y="5120280"/>
              <a:ext cx="3191400" cy="93600"/>
            </a:xfrm>
            <a:prstGeom prst="rect">
              <a:avLst/>
            </a:prstGeom>
            <a:solidFill>
              <a:srgbClr val="ffe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44600" y="4892760"/>
              <a:ext cx="3531960" cy="91080"/>
            </a:xfrm>
            <a:prstGeom prst="rect">
              <a:avLst/>
            </a:prstGeom>
            <a:solidFill>
              <a:srgbClr val="ffe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44600" y="4661280"/>
              <a:ext cx="3531960" cy="95040"/>
            </a:xfrm>
            <a:prstGeom prst="rect">
              <a:avLst/>
            </a:prstGeom>
            <a:solidFill>
              <a:srgbClr val="ffe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44600" y="4429440"/>
              <a:ext cx="3644280" cy="95040"/>
            </a:xfrm>
            <a:prstGeom prst="rect">
              <a:avLst/>
            </a:prstGeom>
            <a:solidFill>
              <a:srgbClr val="ffe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44600" y="4197960"/>
              <a:ext cx="3875040" cy="95040"/>
            </a:xfrm>
            <a:prstGeom prst="rect">
              <a:avLst/>
            </a:prstGeom>
            <a:solidFill>
              <a:srgbClr val="ffe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44600" y="3966840"/>
              <a:ext cx="3933000" cy="95040"/>
            </a:xfrm>
            <a:prstGeom prst="rect">
              <a:avLst/>
            </a:prstGeom>
            <a:solidFill>
              <a:srgbClr val="ffe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44600" y="3740040"/>
              <a:ext cx="3933000" cy="90000"/>
            </a:xfrm>
            <a:prstGeom prst="rect">
              <a:avLst/>
            </a:prstGeom>
            <a:solidFill>
              <a:srgbClr val="ffe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44600" y="3508920"/>
              <a:ext cx="4271400" cy="95040"/>
            </a:xfrm>
            <a:prstGeom prst="rect">
              <a:avLst/>
            </a:prstGeom>
            <a:solidFill>
              <a:srgbClr val="ffe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44600" y="3277440"/>
              <a:ext cx="4327920" cy="95040"/>
            </a:xfrm>
            <a:prstGeom prst="rect">
              <a:avLst/>
            </a:prstGeom>
            <a:solidFill>
              <a:srgbClr val="ffe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44600" y="3045960"/>
              <a:ext cx="4442040" cy="95040"/>
            </a:xfrm>
            <a:prstGeom prst="rect">
              <a:avLst/>
            </a:prstGeom>
            <a:solidFill>
              <a:srgbClr val="ffe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44600" y="2818440"/>
              <a:ext cx="4497840" cy="91080"/>
            </a:xfrm>
            <a:prstGeom prst="rect">
              <a:avLst/>
            </a:prstGeom>
            <a:solidFill>
              <a:srgbClr val="ffe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44600" y="2588040"/>
              <a:ext cx="4616280" cy="93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44600" y="2356560"/>
              <a:ext cx="4842720" cy="95040"/>
            </a:xfrm>
            <a:prstGeom prst="rect">
              <a:avLst/>
            </a:prstGeom>
            <a:solidFill>
              <a:srgbClr val="ffe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44600" y="5512320"/>
              <a:ext cx="5582520" cy="108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2264040" y="5512320"/>
              <a:ext cx="1080" cy="2808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3042000" y="5512320"/>
              <a:ext cx="1440" cy="2808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3838320" y="5512320"/>
              <a:ext cx="1080" cy="2808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4636080" y="5512320"/>
              <a:ext cx="1080" cy="2808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5436360" y="5512320"/>
              <a:ext cx="1440" cy="2808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6233760" y="5512320"/>
              <a:ext cx="1440" cy="2808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030080" y="5512320"/>
              <a:ext cx="1080" cy="2808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7827480" y="5512320"/>
              <a:ext cx="1440" cy="2808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64040" y="2286000"/>
              <a:ext cx="1080" cy="322632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28400" y="5512320"/>
              <a:ext cx="36720" cy="108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28400" y="5280840"/>
              <a:ext cx="36720" cy="144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28400" y="5049360"/>
              <a:ext cx="36720" cy="144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28400" y="4821840"/>
              <a:ext cx="36720" cy="108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28400" y="4590360"/>
              <a:ext cx="36720" cy="144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28400" y="4360320"/>
              <a:ext cx="36720" cy="108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228400" y="4128480"/>
              <a:ext cx="36720" cy="144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228400" y="3897000"/>
              <a:ext cx="36720" cy="144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28400" y="3669480"/>
              <a:ext cx="36720" cy="108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28400" y="3438000"/>
              <a:ext cx="36720" cy="144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28400" y="3206520"/>
              <a:ext cx="36720" cy="144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28400" y="2975400"/>
              <a:ext cx="36720" cy="108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28400" y="2748600"/>
              <a:ext cx="36720" cy="144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28400" y="2517480"/>
              <a:ext cx="36720" cy="108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28400" y="2286000"/>
              <a:ext cx="36720" cy="1080"/>
            </a:xfrm>
            <a:prstGeom prst="line">
              <a:avLst/>
            </a:prstGeom>
            <a:ln w="0">
              <a:solidFill>
                <a:srgbClr val="fbdf5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167560" y="5540760"/>
              <a:ext cx="249120" cy="21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964240" y="5540760"/>
              <a:ext cx="249120" cy="21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60920" y="5540760"/>
              <a:ext cx="249120" cy="21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57600" y="5540760"/>
              <a:ext cx="249120" cy="21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57520" y="5540760"/>
              <a:ext cx="249120" cy="21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56360" y="5540760"/>
              <a:ext cx="249120" cy="21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51960" y="5540760"/>
              <a:ext cx="249120" cy="21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748640" y="5540760"/>
              <a:ext cx="249120" cy="21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7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94520" y="5338800"/>
              <a:ext cx="358920" cy="21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ta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06600" y="5107320"/>
              <a:ext cx="514440" cy="21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98080" y="4879440"/>
              <a:ext cx="773280" cy="21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erman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22000" y="4648320"/>
              <a:ext cx="584280" cy="21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r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10680" y="4419360"/>
              <a:ext cx="762840" cy="21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nma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15440" y="4186800"/>
              <a:ext cx="672840" cy="21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wed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08160" y="3953520"/>
              <a:ext cx="764280" cy="21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ustral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21280" y="3727440"/>
              <a:ext cx="586080" cy="21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89200" y="3495960"/>
              <a:ext cx="1029600" cy="21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therlan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45040" y="3263040"/>
              <a:ext cx="566280" cy="21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Brit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63320" y="3033000"/>
              <a:ext cx="633240" cy="21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400" spc="-1" strike="noStrike">
                  <a:solidFill>
                    <a:srgbClr val="ffffff"/>
                  </a:solidFill>
                  <a:latin typeface="Arial"/>
                </a:rPr>
                <a:t>Finl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r>
                <a:rPr b="1" lang="en-AU" sz="1400" spc="-1" strike="noStrike">
                  <a:solidFill>
                    <a:srgbClr val="ffffff"/>
                  </a:solidFill>
                  <a:latin typeface="Arial"/>
                </a:rPr>
                <a:t>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353240" y="2802960"/>
              <a:ext cx="642240" cy="21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na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17560" y="2575080"/>
              <a:ext cx="1089000" cy="21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Zeal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8520" y="2342520"/>
              <a:ext cx="1139040" cy="213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743840" y="6019920"/>
            <a:ext cx="316908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urce: The Economist Octo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66cc00"/>
                </a:solidFill>
                <a:latin typeface="Verdana"/>
              </a:rPr>
              <a:t>Venture Capital</a:t>
            </a: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84872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Verdana"/>
              </a:rPr>
              <a:t>High business birth rate - 22.7 %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Verdana"/>
              </a:rPr>
              <a:t>96 % of companies employ less than 20 people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Verdana"/>
              </a:rPr>
              <a:t>Deal flow = 400 for first 5 months 2001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Verdana"/>
              </a:rPr>
              <a:t>Less than 5 % invested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66cc00"/>
                </a:solidFill>
                <a:latin typeface="Verdana"/>
              </a:rPr>
              <a:t>Venture Capital</a:t>
            </a: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2590920"/>
            <a:ext cx="7848720" cy="33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Verdana"/>
              </a:rPr>
              <a:t>Returns = 25 - 40% p.a.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Verdana"/>
              </a:rPr>
              <a:t>No capital gains tax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Verdana"/>
              </a:rPr>
              <a:t>NZD 500 m – 1 b invested + same available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Verdana"/>
              </a:rPr>
              <a:t>= 0.8 % of private capital investment (US 2.4%)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2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7612200" y="5934240"/>
            <a:ext cx="34920" cy="50760"/>
          </a:xfrm>
          <a:custGeom>
            <a:avLst/>
            <a:gdLst/>
            <a:ahLst/>
            <a:rect l="l" t="t" r="r" b="b"/>
            <a:pathLst>
              <a:path w="22" h="32">
                <a:moveTo>
                  <a:pt x="0" y="14"/>
                </a:moveTo>
                <a:lnTo>
                  <a:pt x="4" y="5"/>
                </a:lnTo>
                <a:lnTo>
                  <a:pt x="9" y="1"/>
                </a:lnTo>
                <a:lnTo>
                  <a:pt x="14" y="0"/>
                </a:lnTo>
                <a:lnTo>
                  <a:pt x="19" y="3"/>
                </a:lnTo>
                <a:lnTo>
                  <a:pt x="21" y="10"/>
                </a:lnTo>
                <a:lnTo>
                  <a:pt x="22" y="19"/>
                </a:lnTo>
                <a:lnTo>
                  <a:pt x="19" y="26"/>
                </a:lnTo>
                <a:lnTo>
                  <a:pt x="15" y="31"/>
                </a:lnTo>
                <a:lnTo>
                  <a:pt x="10" y="32"/>
                </a:lnTo>
                <a:lnTo>
                  <a:pt x="6" y="32"/>
                </a:lnTo>
                <a:lnTo>
                  <a:pt x="3" y="31"/>
                </a:lnTo>
                <a:lnTo>
                  <a:pt x="2" y="30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66cc00"/>
                </a:solidFill>
                <a:latin typeface="Verdana"/>
              </a:rPr>
              <a:t>Opportunities</a:t>
            </a: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848720" cy="32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2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Verdana"/>
              </a:rPr>
              <a:t>Funding and management collaborations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2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Verdana"/>
              </a:rPr>
              <a:t>Client / investee company synergies, e.g: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2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Wireless communications and the Interne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2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3D imaging and computer anim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2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Genetics and biopharmaceutica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2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High tech niche manufactur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2133720"/>
            <a:ext cx="9144000" cy="4190760"/>
            <a:chOff x="0" y="2133720"/>
            <a:chExt cx="9144000" cy="4190760"/>
          </a:xfrm>
        </p:grpSpPr>
        <p:pic>
          <p:nvPicPr>
            <p:cNvPr id="90" name="face" descr=""/>
            <p:cNvPicPr/>
            <p:nvPr/>
          </p:nvPicPr>
          <p:blipFill>
            <a:blip r:embed="rId1"/>
            <a:srcRect l="1962" t="1994" r="7759" b="-1039"/>
            <a:stretch/>
          </p:blipFill>
          <p:spPr>
            <a:xfrm>
              <a:off x="4807080" y="2141280"/>
              <a:ext cx="4336920" cy="418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2"/>
            <a:srcRect l="0" t="7539" r="6826" b="11309"/>
            <a:stretch/>
          </p:blipFill>
          <p:spPr>
            <a:xfrm>
              <a:off x="0" y="2133720"/>
              <a:ext cx="4836960" cy="419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23520"/>
            <a:ext cx="7619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cc00"/>
                </a:solidFill>
                <a:latin typeface="Verdana"/>
              </a:rPr>
              <a:t>New Zealand - Key Facts</a:t>
            </a: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opulation - 3.8 million     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and area  -  271,000 sq. km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about the same size as UK or Japan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urrency 1 NZ$ = 43 cents USD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 NZ$ = HK$3.40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678640" y="1523880"/>
            <a:ext cx="3465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cc00"/>
                </a:solidFill>
                <a:latin typeface="Verdana"/>
              </a:rPr>
              <a:t>New Zealand Economy</a:t>
            </a: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848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eregulated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ices are market driven rather than determined by the governmen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ree movement of money in &amp; out of NZ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eregulated employment marke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re than farming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cc00"/>
                </a:solidFill>
                <a:latin typeface="Verdana"/>
              </a:rPr>
              <a:t>Business in NZ</a:t>
            </a: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848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ransparency in business processes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Efficient, open &amp; honest bureaucracy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Just do it attitude 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imple low tax structure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Economic growth combined with low inflation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emocratic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cc00"/>
                </a:solidFill>
                <a:latin typeface="Verdana"/>
              </a:rPr>
              <a:t>Percentage Contribution to GDP by Economic Activity</a:t>
            </a: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848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nufacturing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8.2%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ourism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5.9%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Financ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4.7%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ransport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8.4%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ining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8%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oftwar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7.2%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griculture and Fishing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.8%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cc00"/>
                </a:solidFill>
                <a:latin typeface="Verdana"/>
              </a:rPr>
              <a:t>GDP Growth</a:t>
            </a: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09480" y="1905120"/>
          <a:ext cx="777240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05120"/>
                    <a:ext cx="777240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cc00"/>
                </a:solidFill>
                <a:latin typeface="Verdana"/>
              </a:rPr>
              <a:t>What’s NZ like for Business ?</a:t>
            </a: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8 Universities, 20 + Polytechnics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8 Crown Research Institutes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fessional and skilled workers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mpetitive costs – c30% lower than Australia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obust, modern infrastructure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cc00"/>
                </a:solidFill>
                <a:latin typeface="Verdana"/>
              </a:rPr>
              <a:t>EXPORT = LIFE</a:t>
            </a:r>
            <a:endParaRPr b="1" lang="en-US" sz="2600" spc="-1" strike="noStrike">
              <a:solidFill>
                <a:srgbClr val="66cc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2000"/>
              </a:lnSpc>
              <a:spcBef>
                <a:spcPts val="45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Exports USD 10 billion = 30 % g.d.p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ree Market with Australia = 23 millio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ngapore on boar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ng Kong under negoti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A, Chile, ASEAN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8" name="BS02064_" descr=""/>
          <p:cNvPicPr/>
          <p:nvPr/>
        </p:nvPicPr>
        <p:blipFill>
          <a:blip r:embed="rId1"/>
          <a:stretch/>
        </p:blipFill>
        <p:spPr>
          <a:xfrm>
            <a:off x="380880" y="3276720"/>
            <a:ext cx="17384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2T21:02:46Z</dcterms:created>
  <dc:creator>Trade NZ</dc:creator>
  <dc:description/>
  <dc:language>en-US</dc:language>
  <cp:lastModifiedBy>John Zerby</cp:lastModifiedBy>
  <cp:lastPrinted>2001-07-02T00:19:37Z</cp:lastPrinted>
  <dcterms:modified xsi:type="dcterms:W3CDTF">2002-06-02T05:49:18Z</dcterms:modified>
  <cp:revision>9</cp:revision>
  <dc:subject/>
  <dc:title>New Zealand Overview Nick Arathimos Chief Manager, East Asia</dc:title>
</cp:coreProperties>
</file>