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Click to move the slide</a:t>
            </a:r>
            <a:endParaRPr b="1" lang="en-US" sz="33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512-CED2-404E-859C-7EF33B02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air and sea lin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over 480 flights per week in and out of NZ to LA, Asia and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 also has a large number of ports interspersed between the North &amp; South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of shipping is highly competitive and carriers include Maersk &amp; P&amp;O Nedlloy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Z telecommunications system is 100% digital with national services provided by copper, fibre optic cable and terrestrial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major telcos all with links and associations with US and European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is well services internationally with 4 international cable connections and access to the Indian &amp; Pacific ocean region Intels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augmented in November 2000 when the Southern Cross cable comes online with an expected capacity of 200 giga bit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w rental and infrastructu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lity office space is available in the main centers for between 160 &amp; 250 NZ$ per square meter p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plentiful supply of high quality electrical power between 4 &amp; 6 cents per kwh, most of which comes from hydro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ghly skille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se of access to education has ensured an educated and skilled workfo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st marke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US Preroria, Illinois is used as a test city for marketing new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goes one better - we can test natio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rding to The Economist Octo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imple low tax 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base rate of 33%, GST of 12.5% however this is charged to the end us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ayroll tax, no social security tax, no capital gains t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’ers readily adopt new technology 80% of all banking in NZ is now done electron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air and sea lin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over 480 flights per week in and out of NZ to LA, Asia and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 also has a large number of ports interspersed between the North &amp; South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of shipping is highly competitive and carriers include Maersk &amp; P&amp;O Nedlloy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Z telecommunications system is 100% digital with national services provided by copper, fibre optic cable and terrestrial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major telcos all with links and associations with US and European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is well services internationally with 4 international cable connections and access to the Indian &amp; Pacific ocean region Intels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augmented in November 2000 when the Southern Cross cable comes online with an expected capacity of 200 giga bit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w rental and infrastructu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lity office space is available in the main centers for between 160 &amp; 250 NZ$ per square meter p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plentiful supply of high quality electrical power between 4 &amp; 6 cents per kwh, most of which comes from hydro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ghly skille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se of access to education has ensured an educated and skilled workfo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72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72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972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364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972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364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New Zealand Overview</a:t>
            </a:r>
            <a:br>
              <a:rPr sz="3300"/>
            </a:br>
            <a:r>
              <a:rPr b="1" lang="en-US" sz="2800" spc="-1" strike="noStrike">
                <a:solidFill>
                  <a:srgbClr val="66cc00"/>
                </a:solidFill>
                <a:latin typeface="Verdana"/>
              </a:rPr>
              <a:t>Nick Arathimos</a:t>
            </a:r>
            <a:br>
              <a:rPr sz="2800"/>
            </a:br>
            <a:r>
              <a:rPr b="1" lang="en-US" sz="2800" spc="-1" strike="noStrike">
                <a:solidFill>
                  <a:srgbClr val="66cc00"/>
                </a:solidFill>
                <a:latin typeface="Verdana"/>
              </a:rPr>
              <a:t>Investment New Zealand</a:t>
            </a:r>
            <a:endParaRPr b="1" lang="en-US" sz="28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stment New Zea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Where Do The $’s Come From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84872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ffffff"/>
                </a:solidFill>
                <a:uFillTx/>
                <a:latin typeface="Verdana"/>
              </a:rPr>
              <a:t>Visible Expor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Dairy, Meat, Wood and Wool  - 6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dded Value Manufacturing  - 2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ffffff"/>
                </a:solidFill>
                <a:uFillTx/>
                <a:latin typeface="Verdana"/>
              </a:rPr>
              <a:t>Invisible Expor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Tourism, Software and Consultan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Big Four Global Marke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3848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US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UK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Japa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j0251359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27702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Taxation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 taxes are Income Tax and Goods and Services Tax (GST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rsonal Tax Rates: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% on income NZ$0- $9,5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%  on NZ $9500- $38,000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% on income  NZ$ 38,000- $60,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9% above NZ$60,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ST applies at a uniform rate of 12.5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any Tax 33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IT Industry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Z IT Valued at $9.5 bill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pproximately 50,000 employed in I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,500 IT students in NZ Universiti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,500 graduates annually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0% increase in graduates since 1998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end encouraged by Governme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Software Services and Expor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523880"/>
          <a:ext cx="8229600" cy="58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22960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- Ideal Test Marke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st-effective testing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aleable demographics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phisticated market of early adopt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season ahead of the Northern Hemisphere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Fertile Biotechnology Environmen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Relatively disease free animal health statu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Zealand - the premier location for producing human pharmaceuticals through farm an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High quality and cost competitive Government and university research faciliti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A science community with strong international linkag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Research focuses on both agbiotech and human health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Fertile Biotechnology Environmen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ological sciences are a strength of New Zealand tertiary education sector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produces more graduates in biology than any other science disciplin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has a deep resource of people with intellectual capital in the biological scienc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ack Office Processing (SSC)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represents a cost effective location compared to other Western countries for both labour and infrastructure cos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has international and national telecommunications infrastructure to undertake cross border back office processing opera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employees are customer service centric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provides a 24x7 work forc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ack Office Processing (SSC)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765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imes New Roman"/>
              </a:rPr>
              <a:t>Total annual operating costs for a 100 person, transaction processing back office facility, percentage cost saving in Auckland compared to Australian and 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514600"/>
          <a:ext cx="65278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527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What is Investment New Zealand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’s investment promotion agency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division of Trade NZ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cilitates foreign direct investment (FDI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 give you the inside running”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Investment Overview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welcomes investment from international compani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eks to build on and complement the relationship with it’s trading partn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Ease of Starting a New Busines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8520" y="2286000"/>
            <a:ext cx="7239240" cy="3468240"/>
            <a:chOff x="758520" y="2286000"/>
            <a:chExt cx="7239240" cy="3468240"/>
          </a:xfrm>
        </p:grpSpPr>
        <p:sp>
          <p:nvSpPr>
            <p:cNvPr id="137" name=""/>
            <p:cNvSpPr/>
            <p:nvPr/>
          </p:nvSpPr>
          <p:spPr>
            <a:xfrm>
              <a:off x="2244600" y="2286000"/>
              <a:ext cx="5582520" cy="32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3832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3608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636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376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008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2748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4600" y="5350320"/>
              <a:ext cx="31914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44600" y="5120280"/>
              <a:ext cx="3191400" cy="9360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4600" y="4892760"/>
              <a:ext cx="3531960" cy="9108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44600" y="4661280"/>
              <a:ext cx="353196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44600" y="4429440"/>
              <a:ext cx="364428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44600" y="4197960"/>
              <a:ext cx="387504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4600" y="3966840"/>
              <a:ext cx="39330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4600" y="3740040"/>
              <a:ext cx="3933000" cy="9000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4600" y="3508920"/>
              <a:ext cx="42714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4600" y="3277440"/>
              <a:ext cx="432792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44600" y="3045960"/>
              <a:ext cx="444204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4600" y="2818440"/>
              <a:ext cx="4497840" cy="9108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44600" y="2588040"/>
              <a:ext cx="4616280" cy="93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4600" y="2356560"/>
              <a:ext cx="484272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44600" y="5512320"/>
              <a:ext cx="55825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26404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200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3832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63608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43636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3376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03008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82748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404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28400" y="551232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8400" y="528084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8400" y="504936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28400" y="482184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28400" y="459036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28400" y="436032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28400" y="412848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8400" y="38970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28400" y="366948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28400" y="34380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28400" y="320652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28400" y="297540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8400" y="27486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8400" y="251748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8400" y="228600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675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424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092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760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5752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563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519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864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4520" y="5338800"/>
              <a:ext cx="3589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a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6600" y="5107320"/>
              <a:ext cx="5144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4879440"/>
              <a:ext cx="773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22000" y="4648320"/>
              <a:ext cx="584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0680" y="4419360"/>
              <a:ext cx="7628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nma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15440" y="4186800"/>
              <a:ext cx="6728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wed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8160" y="3953520"/>
              <a:ext cx="764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1280" y="3727440"/>
              <a:ext cx="5860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9200" y="3495960"/>
              <a:ext cx="1029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5040" y="3263040"/>
              <a:ext cx="566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rit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3320" y="3033000"/>
              <a:ext cx="6332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Arial"/>
                </a:rPr>
                <a:t>Fin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AU" sz="1400" spc="-1" strike="noStrike">
                  <a:solidFill>
                    <a:srgbClr val="ffffff"/>
                  </a:solidFill>
                  <a:latin typeface="Arial"/>
                </a:rPr>
                <a:t>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3240" y="2802960"/>
              <a:ext cx="6422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7560" y="2575080"/>
              <a:ext cx="10890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Zea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520" y="2342520"/>
              <a:ext cx="11390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743840" y="6019920"/>
            <a:ext cx="31690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The Economist Octo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66cc00"/>
                </a:solidFill>
                <a:latin typeface="Verdana"/>
              </a:rPr>
              <a:t>Venture Capital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High business birth rate - 22.7 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96 % of companies employ less than 20 peopl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Deal flow = 400 for first 5 months 2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Less than 5 % investe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66cc00"/>
                </a:solidFill>
                <a:latin typeface="Verdana"/>
              </a:rPr>
              <a:t>Venture Capital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84872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Returns = 25 - 40% p.a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No capital gains tax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NZD 500 m – 1 b invested + same availabl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= 0.8 % of private capital investment (US 2.4%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7612200" y="593424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0" y="14"/>
                </a:moveTo>
                <a:lnTo>
                  <a:pt x="4" y="5"/>
                </a:lnTo>
                <a:lnTo>
                  <a:pt x="9" y="1"/>
                </a:lnTo>
                <a:lnTo>
                  <a:pt x="14" y="0"/>
                </a:lnTo>
                <a:lnTo>
                  <a:pt x="19" y="3"/>
                </a:lnTo>
                <a:lnTo>
                  <a:pt x="21" y="10"/>
                </a:lnTo>
                <a:lnTo>
                  <a:pt x="22" y="19"/>
                </a:lnTo>
                <a:lnTo>
                  <a:pt x="19" y="26"/>
                </a:lnTo>
                <a:lnTo>
                  <a:pt x="15" y="31"/>
                </a:lnTo>
                <a:lnTo>
                  <a:pt x="10" y="32"/>
                </a:lnTo>
                <a:lnTo>
                  <a:pt x="6" y="32"/>
                </a:lnTo>
                <a:lnTo>
                  <a:pt x="3" y="31"/>
                </a:lnTo>
                <a:lnTo>
                  <a:pt x="2" y="3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Opportunitie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84872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Funding and management collabora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Client / investee company synergies, e.g: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Wireless communications and the I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3D imaging and computer ani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Genetics and biopharmaceutic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High tech niche manufactu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133720"/>
            <a:ext cx="9144000" cy="4190760"/>
            <a:chOff x="0" y="2133720"/>
            <a:chExt cx="9144000" cy="4190760"/>
          </a:xfrm>
        </p:grpSpPr>
        <p:pic>
          <p:nvPicPr>
            <p:cNvPr id="90" name="face" descr=""/>
            <p:cNvPicPr/>
            <p:nvPr/>
          </p:nvPicPr>
          <p:blipFill>
            <a:blip r:embed="rId1"/>
            <a:srcRect l="1962" t="1994" r="7759" b="-1039"/>
            <a:stretch/>
          </p:blipFill>
          <p:spPr>
            <a:xfrm>
              <a:off x="4807080" y="2141280"/>
              <a:ext cx="4336920" cy="41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0" t="7539" r="6826" b="11309"/>
            <a:stretch/>
          </p:blipFill>
          <p:spPr>
            <a:xfrm>
              <a:off x="0" y="2133720"/>
              <a:ext cx="4836960" cy="41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- Key Fac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pulation - 3.8 million     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nd area  -  271,000 sq. km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bout the same size as UK or Japa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rrency 1 NZ$ = 43 cents US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 NZ$ = HK$3.4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78640" y="1523880"/>
            <a:ext cx="346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Economy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regulate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ices are market driven rather than determined by the governme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ee movement of money in &amp; out of NZ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regulated employment marke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than farmi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usiness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arency in business process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icient, open &amp; honest bureaucracy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ust do it attitude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mple low tax structu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conomic growth combined with low inflat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mocratic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Percentage Contribution to GDP by Economic Activity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nufactur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.2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uris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anc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.7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or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.4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n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.2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griculture and Fish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.8%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GDP Growth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905120"/>
          <a:ext cx="7772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2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What’s NZ like for Business 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 Universities, 20 + Polytechnic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 Crown Research Institut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fessional and skilled work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itive costs – c30% lower than Australi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bust, modern infrastructu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EXPORT = LIFE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xports USD 10 billion = 30 % g.d.p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ee Market with Australia = 23 mill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gapore on boa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ng Kong under negoti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A, Chile, ASE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BS02064_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1738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1:02:46Z</dcterms:created>
  <dc:creator>Trade NZ</dc:creator>
  <dc:description/>
  <dc:language>en-US</dc:language>
  <cp:lastModifiedBy>John Zerby</cp:lastModifiedBy>
  <cp:lastPrinted>2001-07-02T00:19:37Z</cp:lastPrinted>
  <dcterms:modified xsi:type="dcterms:W3CDTF">2002-06-02T05:49:18Z</dcterms:modified>
  <cp:revision>9</cp:revision>
  <dc:subject/>
  <dc:title>New Zealand Overview Nick Arathimos Chief Manager, East Asia</dc:title>
</cp:coreProperties>
</file>